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0C00-1481-4C94-BC4D-680E25E25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B52-53CB-4148-BD1E-4DF66B29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FED-A416-412E-8819-3EB45530E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6D6-C977-40E4-89E0-B06A82DC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9CF1-0782-49FC-AD2D-3AEB5A0A6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B8DF0-9930-4912-9FFA-16E158C0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9CC6-ECDE-4F2E-9CDA-2F1A4D21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95D3-4F5F-445C-BB03-D4A31FD5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329F-EED0-4D0F-9880-461599C5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CE2B-37F9-43FD-ACFA-3E7B15E2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2E2A-A8C0-4AB0-8E98-754E788B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3B48-7CCF-4288-9648-86881F4C3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82513-6AE5-4B82-BEAC-B961A402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F941-3B45-41A9-ACB9-B9675B3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D4E9-34BC-4D92-A114-CBAA45CE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0B8D-38F0-4E00-A64C-54678AC7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1DB4-D54F-431C-9A32-35C6F7838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C347-7D85-4CAC-AEB3-C7088C2A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088C-036F-45E5-B522-1BD54762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F2C1-3E44-48FA-99F7-A29B2447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DB4-D4D0-4DA2-B134-4A75053B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7A7C-63F5-44D1-B6AE-8CA0AE3A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88FA-2643-4919-A953-94E6382D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CAA3-B5B8-4EA5-835D-EE6BB200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2EAD1-5F54-4709-A233-2CCAAF5EF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0BA5-2CC5-45D6-8FF5-8752D028F3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nppbillon.ru/images/e-mail.png" TargetMode="External"/><Relationship Id="rId3" Type="http://schemas.openxmlformats.org/officeDocument/2006/relationships/hyperlink" Target="http://inzider.ru/shownews/picture/big/101162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28400" y="5388120"/>
            <a:ext cx="8358120" cy="12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14680" y="4571640"/>
            <a:ext cx="564336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втор данного шаблона: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Ермолаева Ирина Алексеевна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учитель информатики и математики 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МОУ «Павловская сош»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с.Павловск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Times New Roman"/>
              </a:rPr>
              <a:t>Алтайский край</a:t>
            </a: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235728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nppbillon.ru/images/e-mail.png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inzider.ru/shownews/picture/big/101162</a:t>
            </a: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88" name="Picture 5" descr="d:\Мои документы\Мои рисунки\e-mail.png"/>
          <p:cNvPicPr/>
          <p:nvPr/>
        </p:nvPicPr>
        <p:blipFill>
          <a:blip r:embed="rId4"/>
          <a:stretch/>
        </p:blipFill>
        <p:spPr>
          <a:xfrm rot="20579400">
            <a:off x="717120" y="1217160"/>
            <a:ext cx="1171800" cy="117180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"/>
          <p:cNvPicPr/>
          <p:nvPr/>
        </p:nvPicPr>
        <p:blipFill>
          <a:blip r:embed="rId5"/>
          <a:stretch/>
        </p:blipFill>
        <p:spPr>
          <a:xfrm>
            <a:off x="571680" y="2857680"/>
            <a:ext cx="1738080" cy="12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08:46:18Z</dcterms:created>
  <dc:creator>Comp</dc:creator>
  <dc:description/>
  <dc:language>en-US</dc:language>
  <cp:lastModifiedBy>Comp</cp:lastModifiedBy>
  <dcterms:modified xsi:type="dcterms:W3CDTF">2011-07-27T08:51:37Z</dcterms:modified>
  <cp:revision>3</cp:revision>
  <dc:subject/>
  <dc:title>Слайд 1</dc:title>
</cp:coreProperties>
</file>